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72728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31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98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4716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11640" indent="-58320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3273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8820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65280" indent="-59616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356832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7543800"/>
            <a:ext cx="11430000" cy="168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3004640" cy="9753480"/>
            <a:chOff x="0" y="0"/>
            <a:chExt cx="13004640" cy="9753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4640" cy="9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4640" cy="60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600" y="2476440"/>
            <a:ext cx="6248160" cy="2819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8160" cy="251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671400" indent="-5194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53160" indent="-5216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13680" indent="-521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38896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051400" y="3124080"/>
            <a:ext cx="36831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52520" indent="-3499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844560" indent="-3513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222200" indent="-3510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09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6960" y="3111480"/>
            <a:ext cx="11417400" cy="35179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7e2ee"/>
                </a:solidFill>
                <a:latin typeface="Stone Sans ITC TT-Semi"/>
              </a:rPr>
              <a:t>U.S. History:</a:t>
            </a:r>
            <a:br>
              <a:rPr sz="6400"/>
            </a:b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br>
              <a:rPr sz="8400"/>
            </a:br>
            <a:r>
              <a:rPr b="0" lang="en-US" sz="8400" spc="-1" strike="noStrike">
                <a:solidFill>
                  <a:srgbClr val="b7b100"/>
                </a:solidFill>
                <a:latin typeface="Stone Sans ITC TT-Semi"/>
              </a:rPr>
              <a:t>Causes of Revolution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French and Indian War</a:t>
            </a:r>
            <a:br>
              <a:rPr sz="6400"/>
            </a:b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ヒラギノ角ゴ ProN W6"/>
              </a:rPr>
              <a:t>	</a:t>
            </a: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ヒラギノ角ゴ ProN W6"/>
              </a:rPr>
              <a:t>	</a:t>
            </a: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ヒラギノ角ゴ ProN W6"/>
              </a:rPr>
              <a:t>	</a:t>
            </a: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(1756 - 1763)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3619080"/>
            <a:ext cx="10464840" cy="535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Further Westward movement banned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133e"/>
                </a:solidFill>
                <a:latin typeface="Bradley Hand ITC TT-Bold"/>
              </a:rPr>
              <a:t>Extends Quebec south to Mississippi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Denies claims of the states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133e"/>
                </a:solidFill>
                <a:latin typeface="Bradley Hand ITC TT-Bold"/>
              </a:rPr>
              <a:t>Colonists</a:t>
            </a:r>
            <a:r>
              <a:rPr b="0" lang="en-US" sz="3600" spc="-1" strike="noStrike">
                <a:solidFill>
                  <a:srgbClr val="671d00"/>
                </a:solidFill>
                <a:latin typeface="Bradley Hand ITC TT-Bold"/>
              </a:rPr>
              <a:t> REQUIRED to pay cost of war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Colonists demands for representation 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Act - Shun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4600"/>
                </a:solidFill>
                <a:latin typeface="Bradley Hand ITC TT-Bold"/>
              </a:rPr>
              <a:t>Sugar Act (1764)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Bradley Hand ITC TT-Bold"/>
              </a:rPr>
              <a:t>Stamp Act (1765)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The Acts - Continued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ownshend Act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duties on imported glass, lead, paint, tea, paper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Bradley Hand ITC TT-Bold"/>
              </a:rPr>
              <a:t>Writs of Assistance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0000"/>
                </a:solidFill>
                <a:latin typeface="Stone Sans ITC TT-Semi"/>
              </a:rPr>
              <a:t>MASSACRE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e Boston Massacre takes place on March 5, 1770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rispus Attucks killed by British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British soldiers given fair tria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44600"/>
                </a:solidFill>
                <a:latin typeface="Stone Sans ITC TT-Semi"/>
              </a:rPr>
              <a:t>Tea Act (1773)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Britain imposes tax on tea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olonist rebel with boycotts and propaganda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Held Boston Tea Party in response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73060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destroyed shipment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500af"/>
                </a:solidFill>
                <a:latin typeface="Stone Sans ITC TT-Semi"/>
              </a:rPr>
              <a:t>Intolerable Acts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Also called Coercive or Punitive Act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osed Boston Harbor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ancelled MA Charter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Moved trials of colonial officials to London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New Quartering Ac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c650a"/>
                </a:solidFill>
                <a:latin typeface="Stone Sans ITC TT-Semi"/>
              </a:rPr>
              <a:t>Quebec Act 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anada given control of Ohio valley to Mississipi west of colonie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tate claim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210348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rst Continental Congres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